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E66-9732-4108-ABE7-379F1690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E5D-6D24-4777-8AE6-A60E6FB0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2EC-00A4-4F2D-AA0D-EFF3915E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023-4ACD-4007-B223-0896AA0F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633-9EC7-4899-87E3-50335590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236-BEDA-465A-8129-BD2F4D2F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B54-ADC6-46AC-A4D0-129636D6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6C1-BF4E-4897-B440-BAF2340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637-2DEF-4465-85B3-D4D273A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57F-D96E-4DBD-A5C4-B3098CE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5F6-AFB4-4766-B649-F9FC47C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759-5A5E-4326-94B3-674BC17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A5F4-9697-4505-9888-E0CDD406B3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5:53Z</dcterms:created>
  <dc:creator>Martin</dc:creator>
  <dc:description/>
  <dc:language>en-US</dc:language>
  <cp:lastModifiedBy>Martin</cp:lastModifiedBy>
  <dcterms:modified xsi:type="dcterms:W3CDTF">2013-10-30T13:05:56Z</dcterms:modified>
  <cp:revision>1</cp:revision>
  <dc:subject/>
  <dc:title>Slide 1</dc:title>
</cp:coreProperties>
</file>