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4846300" cy="10504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509-4E08-40C9-A856-9764B4FB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1336032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6071400"/>
            <a:ext cx="1336032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1F76-D336-467A-B0D5-85E3CEDE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607140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589160" y="607140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E6E9-79E8-4B52-93AF-F8BFD5A9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0320" y="245124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777240" y="245124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607140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260320" y="607140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777240" y="607140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B97-D3BA-4DAB-B7CA-FE4C4204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2451240"/>
            <a:ext cx="13360320" cy="69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B50-7934-4421-9EB6-FEC03106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1336032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3A5F-EDEA-4AC3-B44D-5321B2F2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98A-7E30-4C01-B083-25E8634B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DDCA-6DBE-4B37-B78F-31F96D84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420840"/>
            <a:ext cx="13360320" cy="81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83DD-D881-4410-A884-B3D0E8CA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607140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47C3-77F4-497B-9913-40101241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589160" y="607140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669C-D0DD-4150-AD2A-0CA2D95F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6071400"/>
            <a:ext cx="1336032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7892-5999-40F7-8DF9-4B638E43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2451240"/>
            <a:ext cx="1336032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9564840"/>
            <a:ext cx="34639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72040" y="9564840"/>
            <a:ext cx="47023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639440" y="9564840"/>
            <a:ext cx="34639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33F5-F015-406C-B197-A970C22FF0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13:06:00Z</dcterms:created>
  <dc:creator>Martin</dc:creator>
  <dc:description/>
  <dc:language>en-US</dc:language>
  <cp:lastModifiedBy>Martin</cp:lastModifiedBy>
  <dcterms:modified xsi:type="dcterms:W3CDTF">2013-10-30T13:06:06Z</dcterms:modified>
  <cp:revision>1</cp:revision>
  <dc:subject/>
  <dc:title>Slide 1</dc:title>
</cp:coreProperties>
</file>