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4846300" cy="10504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F89-CE68-4705-AAF6-8DEC2F78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607140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D93-C8A7-47A1-AFEB-E6A4AEB7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8916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347-78A7-4480-BBEA-8C692BFD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032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77724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6032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77724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B2D-401F-4542-AFC8-227B0264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2320-9E8F-400A-839F-C3C55B99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3C6-B911-4731-8954-D4626459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C6D-31C4-4908-9202-2039EBD7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1DB-9F27-4C9B-841B-F57EDD89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420840"/>
            <a:ext cx="13360320" cy="81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DC8-B4D1-44D9-A5B3-1EF7F98C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7F6-9B5D-42CE-87AD-F2665CFE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8916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167-0471-49B8-ABCD-A0182DFC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1CB-67B6-4D61-BE05-E16D78B4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9564840"/>
            <a:ext cx="34639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72040" y="9564840"/>
            <a:ext cx="47023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39440" y="9564840"/>
            <a:ext cx="34639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8772-1997-489E-83DF-6FA7F44FC0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3:05:46Z</dcterms:created>
  <dc:creator>Martin</dc:creator>
  <dc:description/>
  <dc:language>en-US</dc:language>
  <cp:lastModifiedBy>Martin</cp:lastModifiedBy>
  <dcterms:modified xsi:type="dcterms:W3CDTF">2013-10-30T13:05:51Z</dcterms:modified>
  <cp:revision>1</cp:revision>
  <dc:subject/>
  <dc:title>Slide 1</dc:title>
</cp:coreProperties>
</file>